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BEF-F685-464D-8E74-A6EF7B60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3EE-06F1-4F00-9264-329661E9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80F-8D36-4893-92DC-DD62505C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B30-B4D2-4A38-BEBA-08BC79F9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BA4-D7FB-449C-B44B-7747DB98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4C9-F4D2-4A13-BD84-83FF8C10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7AE-62A7-42FF-BB57-7E4522AA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3AC-6EF2-4B7C-BFB6-99F356FB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65D-D235-49E6-848E-F29208E3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9FF-CB7A-4CB4-91C9-FB0BFFDE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4A6-B55B-4C6F-AE0B-F203D872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424-8238-4357-9336-C24023F1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493B-4673-49C6-90CF-76E173A03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620640"/>
            <a:ext cx="158436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Movimen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migra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14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844640"/>
            <a:ext cx="3095640" cy="1366920"/>
          </a:xfrm>
          <a:prstGeom prst="rect">
            <a:avLst/>
          </a:prstGeom>
          <a:solidFill>
            <a:srgbClr val="14e23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chiama emigra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do le persone di un p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ne vanno all’ est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vere e cerc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3284640"/>
            <a:ext cx="0" cy="64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05360"/>
            <a:ext cx="3097080" cy="1511280"/>
          </a:xfrm>
          <a:prstGeom prst="rect">
            <a:avLst/>
          </a:prstGeom>
          <a:solidFill>
            <a:srgbClr val="14e23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i italiani sono stati emigr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lti paesi e,anche 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o di una volta , lo so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e o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05264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333360"/>
            <a:ext cx="2449440" cy="1079640"/>
          </a:xfrm>
          <a:prstGeom prst="rect">
            <a:avLst/>
          </a:prstGeom>
          <a:solidFill>
            <a:srgbClr val="ff99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persone vann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ere in un altro p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084720" y="475920"/>
            <a:ext cx="1008360" cy="36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907920"/>
            <a:ext cx="1008360" cy="57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189000"/>
            <a:ext cx="1655640" cy="720720"/>
          </a:xfrm>
          <a:prstGeom prst="rect">
            <a:avLst/>
          </a:prstGeom>
          <a:solidFill>
            <a:srgbClr val="ff99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vare un 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1268280"/>
            <a:ext cx="1224000" cy="1511280"/>
          </a:xfrm>
          <a:prstGeom prst="rect">
            <a:avLst/>
          </a:prstGeom>
          <a:solidFill>
            <a:srgbClr val="ff99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uggi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 situaz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esemp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uerre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1268280"/>
            <a:ext cx="1368360" cy="79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2421000"/>
            <a:ext cx="2881080" cy="1152360"/>
          </a:xfrm>
          <a:prstGeom prst="rect">
            <a:avLst/>
          </a:prstGeom>
          <a:solidFill>
            <a:srgbClr val="cc00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chiama immigra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do in un paese arriva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ieri a viv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cercare 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4365720"/>
            <a:ext cx="719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4292640"/>
            <a:ext cx="1726920" cy="504720"/>
          </a:xfrm>
          <a:prstGeom prst="rect">
            <a:avLst/>
          </a:prstGeom>
          <a:solidFill>
            <a:srgbClr val="14e23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Mete princip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95280" y="5013360"/>
            <a:ext cx="647640" cy="36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5013360"/>
            <a:ext cx="0" cy="503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5013360"/>
            <a:ext cx="288720" cy="36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0000" y="5516640"/>
            <a:ext cx="936360" cy="576360"/>
          </a:xfrm>
          <a:prstGeom prst="rect">
            <a:avLst/>
          </a:prstGeom>
          <a:solidFill>
            <a:srgbClr val="14e23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euro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5516640"/>
            <a:ext cx="720720" cy="288720"/>
          </a:xfrm>
          <a:prstGeom prst="rect">
            <a:avLst/>
          </a:prstGeom>
          <a:solidFill>
            <a:srgbClr val="14e23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U.S.A.,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5589720"/>
            <a:ext cx="1079640" cy="288720"/>
          </a:xfrm>
          <a:prstGeom prst="rect">
            <a:avLst/>
          </a:prstGeom>
          <a:solidFill>
            <a:srgbClr val="14e23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3789360"/>
            <a:ext cx="431640" cy="36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1640" y="4221000"/>
            <a:ext cx="1008000" cy="1440000"/>
          </a:xfrm>
          <a:prstGeom prst="rect">
            <a:avLst/>
          </a:prstGeom>
          <a:solidFill>
            <a:srgbClr val="cc00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In Ital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Arriv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Immigra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Soprattu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020000" y="5661000"/>
            <a:ext cx="288720" cy="36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44000" y="5734080"/>
            <a:ext cx="0" cy="43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6165720"/>
            <a:ext cx="936720" cy="358920"/>
          </a:xfrm>
          <a:prstGeom prst="rect">
            <a:avLst/>
          </a:prstGeom>
          <a:solidFill>
            <a:srgbClr val="cc00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Est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2000" y="6093000"/>
            <a:ext cx="1332000" cy="576000"/>
          </a:xfrm>
          <a:prstGeom prst="rect">
            <a:avLst/>
          </a:prstGeom>
          <a:solidFill>
            <a:srgbClr val="cc00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Africa/Alb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50:34Z</dcterms:created>
  <dc:creator>informatica20</dc:creator>
  <dc:description/>
  <dc:language>en-US</dc:language>
  <cp:lastModifiedBy>informatica20</cp:lastModifiedBy>
  <dcterms:modified xsi:type="dcterms:W3CDTF">2016-12-05T10:34:53Z</dcterms:modified>
  <cp:revision>4</cp:revision>
  <dc:subject/>
  <dc:title>Diapositiva 1</dc:title>
</cp:coreProperties>
</file>